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39A-6E59-49BF-B3E5-7C69ED4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D94-A8BB-438A-AD90-39E0F84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1C1-36F3-4E21-ABFB-A1E7BC6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A4D-4EAF-4569-B302-DF390B57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E15D-7119-40B6-965B-A73616F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84DE-AFEE-498E-8DE5-69A32FB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98FB-A43A-447E-B195-5CF47D83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1C2-65F8-4EF7-ABB7-5179B4E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5A6-53A9-4D24-8A09-E53BF5A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B366-411D-4E13-9471-55748126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BC48-8ED8-49D5-8DDF-D6BC809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559-8104-4354-8698-44B3B557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1429-D62C-4E6D-BFF9-2D23EF7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B11D-BCD7-4936-B57F-5F330437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B083-22BD-4D9F-922D-5A1F783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9F89-6FCE-4106-853E-292930FF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C065-67B2-4526-A4CF-8032968D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F75F-82C9-4A88-8C97-9A0E903C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5443-3A80-4122-BE6F-1424B21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746F-AE15-4FCE-B893-926B881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C83F-65C0-4B1E-A0D5-3C608DB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2A95-BAEE-4943-A3E7-3B019CC5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BB2-DBDA-48D8-928E-9A5726A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E9A0-150A-4905-83A4-B3857E3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9F3D-4C00-4B13-BDDB-492BE9C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6DB2-7DE6-4E26-B561-CB13EFA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F99E-6F52-42B3-B764-F95FB06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B8EB-9CE1-4EB2-B231-3549E9C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A86E-0A78-49C5-ABC9-4A739ACE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8C0D-866D-43C9-936F-F89AF570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EFC6-76A2-488E-88E0-1C5E6D5E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D595-275C-43BB-8E6C-FF3D7108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E3CD-D16A-43F7-8B1E-F54E2BBF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4CD-D355-4C29-847F-E7F8DEC2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D95E-452C-404D-B2CC-F4EE658E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9F56-43B5-48D6-A096-E369E6B3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0C31-9841-44DC-A2F5-1544890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028F-0B4E-4DB3-8983-9029358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18F5-F09C-417D-8369-5DBDE02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EF10-4533-4EB3-B592-BD7D8E7A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7B52-0FED-40D2-AB8A-7541B48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6F6F-E9A2-49BA-A105-B7A30ABA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48AA-B6E1-44DE-8DD5-C30434B2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589C-01B7-4BCC-9280-7F970954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A26-762F-475B-8AA6-E3A7516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920E-2659-4AE2-B887-40F47C2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23E1-8E0C-4F5F-9B0C-41456B7A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74F1-48C5-4467-867D-6B4B8EF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5CFB-6069-4173-A234-F283A457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7159-438D-41E7-A4E3-9FE2B86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FA33-2271-4328-8D94-21EE925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ADC1-3B31-46CE-84AF-0DDEE5D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7FAD-B62D-44E7-A25A-0DB422C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29A5-B5B2-4E93-96F3-4FB1992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45DE-AAD7-4B5C-AAA0-7C4602F9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A7D-31B5-4FCD-91C6-38B5EAC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6443-63AE-4EB6-8218-E9C75AA0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5A12F-7433-4615-9A82-AB9C4E97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19E6C-6620-4145-9407-0A2E62C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EAD3-4F53-4860-86F4-A583F81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92021-45FE-451C-B1E6-F6FCCA9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DC00-5FEA-4437-872C-91055686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08E5-1821-4E1B-BFC6-85311F3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F174-72B5-420B-8A96-D9BE8046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B4FF-DFC0-4587-BC9C-C623E8E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8941-0732-4757-BF0F-EA8BA7AD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A55-470C-499C-8845-9D1C9DE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A6696-6DB8-4A0F-95D7-BCED3F71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C9BA-6712-4AF6-B874-97D98900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8B73-7250-4ADA-8B3B-9F3C89C3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83B4-84BA-4F01-B0BE-D79C3717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C8562-FDF0-4AEE-9BAA-8F2B6FC2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CC1C-55DE-4566-B33C-217B824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C727-333F-45C9-A58A-240560F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99BED-486B-4F7B-B3C1-E6A0B44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91062-E257-4491-921D-94D4B42C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20E3-2373-440B-86DD-9D10344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20C-B976-47F0-A4A5-A2F80A1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8847-A72B-4051-92F2-2AFC40F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9DF5-5051-4456-9E0A-3FC99D9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62B0-60E4-412C-9074-15FB3872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A71E-6FDF-4109-9712-00D89F72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4CFED-D2D6-42B4-A3AC-3B5720A6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4059-4081-469C-A68F-ECF7766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D0C8-F5AA-4861-A388-34E4FCC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07E1-802D-45FF-BC15-AB1E4861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B278-7538-4F72-9F26-EC18587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4E2E-E99D-4791-9322-9D5A720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C29-8FEB-4419-A561-0B5FDD5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5D11-9BF8-45D6-8C6E-74AE1D0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BD921-54C5-46A6-A043-F789DC3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251E9-70F2-45EF-9DC2-CB1B48C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1BE2-1C62-45AB-887C-699F520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0CA4-C267-4A6C-9791-1B5D7D53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A5786-4BA6-4C9D-8033-76BA4BD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8993-E41B-42E3-B75D-3A7DD08D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4DC0-A6EC-424F-A11D-1862653A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7FE-6825-4E76-ADBD-696375E6C8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2D2-EC2B-4177-B1F3-E1A67782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B30E-4CFC-447A-BBD9-0D1FF4109A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697-C133-468A-9194-67A30318A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7BD3-FC03-4961-83A3-477C39BF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B4B-27B7-47E3-9C43-1220FDCBF87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442-A24D-4E89-8C82-5FB7F4A124E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plain why term “kinetic” makes sense when speaking about particle behavi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ccording to the kinetic theory, all matter consists of tiny particles that are in constant motion. These particles in gas are usually molecules or atom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2. How does a gas behave according to the kinetic molecular theory (KMT)? What are the three basic principles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The particles in a gas are considered to be small, hard spheres with an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significant volu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The motion of the particles in a gas is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rapid, constant, and random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. All collisions between particles in a gas are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perfectly elast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. Why is the motion of one particle independent of another particle in a gas sampl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 are no attractive or repulsive forces between the particles of a gas due to the larger distance between them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4. Define elastic collis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 is when kinetic energy is transferred without loss from one particle to another, and the total kinetic energy remains constant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ases fill their containers regardless of the shape and volume of the contain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uncontained gas can spread out into space without lim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as particles change direction only when they rebound from collisions with one another or with other objec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54:05Z</dcterms:created>
  <dc:creator>14valler</dc:creator>
  <dc:description/>
  <dc:language>en-US</dc:language>
  <cp:lastModifiedBy>udsd</cp:lastModifiedBy>
  <dcterms:modified xsi:type="dcterms:W3CDTF">2012-04-26T16:48:41Z</dcterms:modified>
  <cp:revision>3</cp:revision>
  <dc:subject/>
  <dc:title>Kinetic Theory - Gases</dc:title>
</cp:coreProperties>
</file>